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F5CF-6AE0-4FE7-A79A-97DDDD10AB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A15D-4582-4577-9647-80AE4D6FF3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01760" y="804960"/>
            <a:ext cx="4254480" cy="3190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5200" y="4346280"/>
            <a:ext cx="5187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608-B78F-4416-99FB-7B14749085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1298520" y="800280"/>
            <a:ext cx="4262400" cy="319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E764-0A6D-44CA-96F9-269368511D7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8520" y="800280"/>
            <a:ext cx="4262400" cy="319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º Item: Testar todas as combinações e seus respectivos caminhos dentro do programa, é praticamente impossível, se o número de entradas possíveis for muito gran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º Item: Em um teste bem sucedido a média de erros encontrados é 60%. Nunca obtém 100% de eficá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º Item: Relação custo-tempo verificar se os custos dos testes não tem efeito significativo no retorno financeiro. Em que momento o produto pode ser considerado como adequamente testado para ganhar o 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660-772A-4C0D-9C30-6448DB53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AAB2-D4B2-44EF-8CD1-44E72AD2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E93-1AF0-45F1-92E3-9DFDBDB5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337-878A-4871-B3B7-55C0ECAB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4FCE-0463-4E36-83C7-48C449D3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0274-E98C-4B76-AC54-CC604BA1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353B-FA50-4598-8B43-2E6A5F52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1C7A-4F88-44E7-8D63-930B741F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BFA2-630B-40CC-A3DA-9E314F5D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992A-9B88-4BEF-A53C-953619B5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BA71-7AE9-4DDE-843F-D72EF945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E52-859B-4F1B-BA4C-2D2AEAB1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C660-C010-4323-A38C-F5CF4682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9C1E-18CB-49AF-9C28-41113BCC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A61-DB4A-4498-A8C2-281D062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4664-9B6E-4A63-BE38-7B416995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F0C3-30C0-4FB7-9DEC-781D7982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AC6-46D3-4C36-8940-3E8D64AC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0C2-0865-4932-B191-8FFE49A8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69A-2BD7-4821-BEF6-143D2989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3B1-9B2F-4D9D-A6FB-2F74A5C3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9D0-D839-4B4C-BC1B-E826F8E7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FBA-30F8-44CE-9F23-DD0C3F38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551-96F3-44D6-8215-DFB5B164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FC76-DCD2-4C73-8FF8-ED6901B3AD26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FC4F-562C-496A-90EA-C25C69891D57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e9"/>
                </a:solidFill>
                <a:latin typeface="Tahoma"/>
              </a:rPr>
              <a:t>Teste de Software</a:t>
            </a:r>
            <a:endParaRPr b="0" lang="en-US" sz="5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70240" y="4343400"/>
            <a:ext cx="444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Anderson Viçoso de Araúj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André Luís Schwerz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Leandro Kenji Arum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Luís Roberto de Freitas Nakason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écnicas de Teste de Softwar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264c"/>
                </a:solidFill>
                <a:latin typeface="Tahoma"/>
              </a:rPr>
              <a:t>Teste Estrutural (Caixa Branca): 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São testados os caminhos lógicos através do software, fornecendo casos de teste que põem à prova conjuntos específicos de condições e/ou laços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264c"/>
                </a:solidFill>
                <a:latin typeface="Tahoma"/>
              </a:rPr>
              <a:t>Teste Funcional (Caixa Preta): 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São usados para  demonstrar que as funções dos softwares são operacionais, que a entrada é adequadamente aceita e a saída é corretamente produzida; que a integridade das informações externas é mantida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264c"/>
                </a:solidFill>
                <a:latin typeface="Tahoma"/>
              </a:rPr>
              <a:t>Baseada em Erros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Consiste em incluir propositalmente algum erro no programa e observar o comportamento do programa com erro, comparando-o com o comportamento do programa original.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Estrutural (Caixa Branca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Garante que todos os caminhos independentes dentro de um módulo tenham sido exercitados pelo menos uma vez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Exercita as estruturas de dados internas para garantir a sua validade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Executa todos os laços em suas fronteira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Exercita todas as decisões lógicas para valores falsos ou verdadeir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28600" y="2438280"/>
          <a:ext cx="8686800" cy="233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438280"/>
                    <a:ext cx="8686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050120" y="838080"/>
            <a:ext cx="6049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333333"/>
                </a:solidFill>
                <a:latin typeface="Tahoma"/>
              </a:rPr>
              <a:t>Construção do Grafo de Flux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Estrutural </a:t>
            </a:r>
            <a:br>
              <a:rPr sz="35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63120" y="4613400"/>
            <a:ext cx="46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2: Notação do grafo de flux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457560" y="1981080"/>
            <a:ext cx="3574800" cy="4114800"/>
            <a:chOff x="457560" y="1981080"/>
            <a:chExt cx="3574800" cy="4114800"/>
          </a:xfrm>
        </p:grpSpPr>
        <p:sp>
          <p:nvSpPr>
            <p:cNvPr id="177" name=""/>
            <p:cNvSpPr/>
            <p:nvPr/>
          </p:nvSpPr>
          <p:spPr>
            <a:xfrm>
              <a:off x="838440" y="5143680"/>
              <a:ext cx="67572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05560" y="5143680"/>
              <a:ext cx="67536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72320" y="4590720"/>
              <a:ext cx="67536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72320" y="5143680"/>
              <a:ext cx="67536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33800" y="4438080"/>
              <a:ext cx="853200" cy="613800"/>
            </a:xfrm>
            <a:prstGeom prst="flowChartDecision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3600" y="3732120"/>
              <a:ext cx="854640" cy="613800"/>
            </a:xfrm>
            <a:prstGeom prst="flowChartDecision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53600" y="2442600"/>
              <a:ext cx="854640" cy="613080"/>
            </a:xfrm>
            <a:prstGeom prst="flowChartDecision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43240" y="3239640"/>
              <a:ext cx="67572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8160" y="1981080"/>
              <a:ext cx="245520" cy="24552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5" idx="4"/>
              <a:endCxn id="183" idx="0"/>
            </p:cNvCxnSpPr>
            <p:nvPr/>
          </p:nvCxnSpPr>
          <p:spPr>
            <a:xfrm>
              <a:off x="2680560" y="2226240"/>
              <a:ext cx="1080" cy="28440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3" idx="1"/>
              <a:endCxn id="188" idx="0"/>
            </p:cNvCxnSpPr>
            <p:nvPr/>
          </p:nvCxnSpPr>
          <p:spPr>
            <a:xfrm flipV="1" rot="10800000">
              <a:off x="592200" y="2747520"/>
              <a:ext cx="1659960" cy="285660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531360" y="5604480"/>
              <a:ext cx="122400" cy="918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82" idx="1"/>
              <a:endCxn id="181" idx="0"/>
            </p:cNvCxnSpPr>
            <p:nvPr/>
          </p:nvCxnSpPr>
          <p:spPr>
            <a:xfrm flipV="1" rot="10800000">
              <a:off x="1758960" y="4038120"/>
              <a:ext cx="493200" cy="46872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2" idx="3"/>
              <a:endCxn id="179" idx="0"/>
            </p:cNvCxnSpPr>
            <p:nvPr/>
          </p:nvCxnSpPr>
          <p:spPr>
            <a:xfrm>
              <a:off x="3109680" y="4038480"/>
              <a:ext cx="401040" cy="56736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2619720" y="5850000"/>
              <a:ext cx="122400" cy="9216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8480" y="5727240"/>
              <a:ext cx="122400" cy="9216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81" idx="1"/>
              <a:endCxn id="177" idx="0"/>
            </p:cNvCxnSpPr>
            <p:nvPr/>
          </p:nvCxnSpPr>
          <p:spPr>
            <a:xfrm flipV="1" rot="10800000">
              <a:off x="1175760" y="4744080"/>
              <a:ext cx="155160" cy="41400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1" idx="3"/>
              <a:endCxn id="178" idx="0"/>
            </p:cNvCxnSpPr>
            <p:nvPr/>
          </p:nvCxnSpPr>
          <p:spPr>
            <a:xfrm>
              <a:off x="2188080" y="4744440"/>
              <a:ext cx="155160" cy="41400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77" idx="2"/>
              <a:endCxn id="192" idx="2"/>
            </p:cNvCxnSpPr>
            <p:nvPr/>
          </p:nvCxnSpPr>
          <p:spPr>
            <a:xfrm flipH="1" rot="16200000">
              <a:off x="1269360" y="5343480"/>
              <a:ext cx="336600" cy="52272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78" idx="2"/>
              <a:endCxn id="192" idx="6"/>
            </p:cNvCxnSpPr>
            <p:nvPr/>
          </p:nvCxnSpPr>
          <p:spPr>
            <a:xfrm rot="5400000">
              <a:off x="1913760" y="5343840"/>
              <a:ext cx="336600" cy="52272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92" idx="4"/>
              <a:endCxn id="191" idx="2"/>
            </p:cNvCxnSpPr>
            <p:nvPr/>
          </p:nvCxnSpPr>
          <p:spPr>
            <a:xfrm flipH="1" rot="16200000">
              <a:off x="2150640" y="5427360"/>
              <a:ext cx="76680" cy="86076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0" idx="2"/>
              <a:endCxn id="191" idx="6"/>
            </p:cNvCxnSpPr>
            <p:nvPr/>
          </p:nvCxnSpPr>
          <p:spPr>
            <a:xfrm rot="5400000">
              <a:off x="2896200" y="5282280"/>
              <a:ext cx="459720" cy="76824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79" idx="2"/>
              <a:endCxn id="180" idx="0"/>
            </p:cNvCxnSpPr>
            <p:nvPr/>
          </p:nvCxnSpPr>
          <p:spPr>
            <a:xfrm>
              <a:off x="3510000" y="4884120"/>
              <a:ext cx="1080" cy="27432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84" idx="2"/>
              <a:endCxn id="182" idx="0"/>
            </p:cNvCxnSpPr>
            <p:nvPr/>
          </p:nvCxnSpPr>
          <p:spPr>
            <a:xfrm>
              <a:off x="2680560" y="3532680"/>
              <a:ext cx="1080" cy="26820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83" idx="2"/>
              <a:endCxn id="184" idx="0"/>
            </p:cNvCxnSpPr>
            <p:nvPr/>
          </p:nvCxnSpPr>
          <p:spPr>
            <a:xfrm>
              <a:off x="2680560" y="2986200"/>
              <a:ext cx="1080" cy="26820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457560" y="5741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37640" y="5507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26120" y="5630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80560" y="2349360"/>
              <a:ext cx="13510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0920" y="5911560"/>
              <a:ext cx="0" cy="1839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032360" y="2349360"/>
              <a:ext cx="0" cy="37461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80920" y="6095880"/>
              <a:ext cx="13510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66680" y="838080"/>
            <a:ext cx="5943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Fluxograma e Grafo de Flux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Estrutural </a:t>
            </a:r>
            <a:br>
              <a:rPr sz="35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51560" y="2423520"/>
            <a:ext cx="3472560" cy="3130560"/>
            <a:chOff x="4651560" y="2423520"/>
            <a:chExt cx="3472560" cy="3130560"/>
          </a:xfrm>
        </p:grpSpPr>
        <p:cxnSp>
          <p:nvCxnSpPr>
            <p:cNvPr id="212" name=""/>
            <p:cNvCxnSpPr>
              <a:stCxn id="213" idx="4"/>
              <a:endCxn id="214" idx="0"/>
            </p:cNvCxnSpPr>
            <p:nvPr/>
          </p:nvCxnSpPr>
          <p:spPr>
            <a:xfrm flipH="1">
              <a:off x="6665040" y="2806200"/>
              <a:ext cx="24840" cy="18972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14" idx="6"/>
              <a:endCxn id="216" idx="1"/>
            </p:cNvCxnSpPr>
            <p:nvPr/>
          </p:nvCxnSpPr>
          <p:spPr>
            <a:xfrm>
              <a:off x="6937200" y="3171600"/>
              <a:ext cx="377280" cy="23868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6" idx="4"/>
              <a:endCxn id="218" idx="7"/>
            </p:cNvCxnSpPr>
            <p:nvPr/>
          </p:nvCxnSpPr>
          <p:spPr>
            <a:xfrm flipH="1">
              <a:off x="6869880" y="3709800"/>
              <a:ext cx="648360" cy="83412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20" idx="3"/>
              <a:endCxn id="221" idx="7"/>
            </p:cNvCxnSpPr>
            <p:nvPr/>
          </p:nvCxnSpPr>
          <p:spPr>
            <a:xfrm flipH="1">
              <a:off x="5200200" y="3658680"/>
              <a:ext cx="506880" cy="28944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21" idx="5"/>
              <a:endCxn id="223" idx="2"/>
            </p:cNvCxnSpPr>
            <p:nvPr/>
          </p:nvCxnSpPr>
          <p:spPr>
            <a:xfrm>
              <a:off x="5200200" y="4198680"/>
              <a:ext cx="451800" cy="29124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23" idx="6"/>
              <a:endCxn id="218" idx="2"/>
            </p:cNvCxnSpPr>
            <p:nvPr/>
          </p:nvCxnSpPr>
          <p:spPr>
            <a:xfrm>
              <a:off x="6031080" y="4489560"/>
              <a:ext cx="460800" cy="18000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4" idx="2"/>
              <a:endCxn id="220" idx="7"/>
            </p:cNvCxnSpPr>
            <p:nvPr/>
          </p:nvCxnSpPr>
          <p:spPr>
            <a:xfrm flipH="1">
              <a:off x="5976360" y="3171600"/>
              <a:ext cx="415080" cy="23868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20" idx="5"/>
              <a:endCxn id="227" idx="2"/>
            </p:cNvCxnSpPr>
            <p:nvPr/>
          </p:nvCxnSpPr>
          <p:spPr>
            <a:xfrm>
              <a:off x="5977080" y="3659040"/>
              <a:ext cx="513360" cy="23904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7" idx="3"/>
              <a:endCxn id="223" idx="6"/>
            </p:cNvCxnSpPr>
            <p:nvPr/>
          </p:nvCxnSpPr>
          <p:spPr>
            <a:xfrm flipH="1">
              <a:off x="6031080" y="4022280"/>
              <a:ext cx="514440" cy="46764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00880" y="2423520"/>
              <a:ext cx="3762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91440" y="2824920"/>
              <a:ext cx="545760" cy="6922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2, 3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30960" y="3186720"/>
              <a:ext cx="573120" cy="6922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4, 5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53080" y="3326760"/>
              <a:ext cx="3780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6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3866760"/>
              <a:ext cx="3762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7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91160" y="3690360"/>
              <a:ext cx="3762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8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92960" y="4321800"/>
              <a:ext cx="442800" cy="6922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53080" y="4282560"/>
              <a:ext cx="3762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9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2960" y="4861800"/>
              <a:ext cx="442800" cy="6922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11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213" idx="2"/>
              <a:endCxn id="229" idx="2"/>
            </p:cNvCxnSpPr>
            <p:nvPr/>
          </p:nvCxnSpPr>
          <p:spPr>
            <a:xfrm flipV="1" rot="10800000">
              <a:off x="6490440" y="2629440"/>
              <a:ext cx="8640" cy="2578680"/>
            </a:xfrm>
            <a:prstGeom prst="curvedConnector5">
              <a:avLst>
                <a:gd name="adj1" fmla="val 22313043"/>
                <a:gd name="adj2" fmla="val 50000"/>
                <a:gd name="adj3" fmla="val 22313043"/>
              </a:avLst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>
              <a:stCxn id="218" idx="6"/>
              <a:endCxn id="213" idx="6"/>
            </p:cNvCxnSpPr>
            <p:nvPr/>
          </p:nvCxnSpPr>
          <p:spPr>
            <a:xfrm flipH="1" flipV="1">
              <a:off x="6876360" y="2630160"/>
              <a:ext cx="59400" cy="2039040"/>
            </a:xfrm>
            <a:prstGeom prst="curvedConnector5">
              <a:avLst>
                <a:gd name="adj1" fmla="val -2013414"/>
                <a:gd name="adj2" fmla="val 49991"/>
                <a:gd name="adj3" fmla="val -2013414"/>
              </a:avLst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</p:grpSp>
      <p:sp>
        <p:nvSpPr>
          <p:cNvPr id="232" name=""/>
          <p:cNvSpPr/>
          <p:nvPr/>
        </p:nvSpPr>
        <p:spPr>
          <a:xfrm>
            <a:off x="1297440" y="6254640"/>
            <a:ext cx="28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3: Fluxogram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61840" y="563868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4: Grafo de flux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rês formas de encontrar o número de caminhos independente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número de regiões do grafo é igual ao números de caminh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V(G) = A - N + 2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V(G) = P + 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Os 4 caminhos independent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1-1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1-2-3-4-5-10-1-1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1-2-3-6-8-9-10-1-1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1-2-3-6-7-9-10-1-11</a:t>
            </a:r>
            <a:br>
              <a:rPr sz="2400"/>
            </a:b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838080"/>
            <a:ext cx="5943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Fluxo de Dados - Caminho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Estrutural </a:t>
            </a:r>
            <a:br>
              <a:rPr sz="35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ahoma"/>
              </a:rPr>
              <a:t>Código exemplo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631880"/>
            <a:ext cx="7848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char  achar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int   length, valid_id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length = 0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printf (“Identificador: “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valid_id = valid_s(achar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if (valid_id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/* 02 */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length</a:t>
            </a:r>
            <a:r>
              <a:rPr b="0" lang="pt-BR" sz="1600" spc="-1" strike="noStrike">
                <a:solidFill>
                  <a:srgbClr val="00264c"/>
                </a:solidFill>
                <a:latin typeface="Courier New"/>
              </a:rPr>
              <a:t> 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= 1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03 */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/* 04 */</a:t>
            </a: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while (achar != '\n'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5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5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if (!(valid_f(achar))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/* 06 */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valid_id = 0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07 */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length++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07 */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07 */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/* 08 */</a:t>
            </a: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if (valid_id &amp;&amp; (length &gt;= 1) &amp;&amp; (length &lt; 6) 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9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printf (“Valido\n“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/* 10 */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/* 10 */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printf (“Invalido\n“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11 */ 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São testes que exercitam completamente os requisitos funcionais do program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Atividade complementar aos testes de caixa branca, com a finalidade de descobrir tipos/classes de err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Objetivo de descobrir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funções incorretas ou faltand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erros de interface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erros de dad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erros de desempenh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erro de inicialização e término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Funcional (caixa preta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Suponhamos X um número, tal que a&lt;X&lt;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Assim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X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deve ser testado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para os valores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a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+ 1 e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b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– 1 da classe válida,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para os valores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a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e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b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da classe inválid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para valores especiais tais como zero, vazio, ou caracteres alfabéticos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Funcional (caixa preta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825480"/>
            <a:ext cx="2057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xempl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  <a:ea typeface="Times New Roman"/>
              </a:rPr>
              <a:t>Fases da atividade de test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unidad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integraçã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Não incremental ou Big Ban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Incremental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Integração Top-dow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Integração Bottom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sistema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aceitaçã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  <a:ea typeface="Times New Roman"/>
              </a:rPr>
              <a:t>Fases da atividade de test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90720" y="1981080"/>
            <a:ext cx="7771680" cy="4052880"/>
            <a:chOff x="990720" y="1981080"/>
            <a:chExt cx="7771680" cy="4052880"/>
          </a:xfrm>
        </p:grpSpPr>
        <p:grpSp>
          <p:nvGrpSpPr>
            <p:cNvPr id="248" name=""/>
            <p:cNvGrpSpPr/>
            <p:nvPr/>
          </p:nvGrpSpPr>
          <p:grpSpPr>
            <a:xfrm>
              <a:off x="990720" y="1981080"/>
              <a:ext cx="4776120" cy="4052880"/>
              <a:chOff x="990720" y="1981080"/>
              <a:chExt cx="4776120" cy="405288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2728440" y="3252960"/>
                <a:ext cx="10353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94320" y="3252960"/>
                <a:ext cx="10353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794320" y="3296520"/>
                <a:ext cx="10353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90720" y="3736440"/>
                <a:ext cx="47761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85360" y="1981080"/>
                <a:ext cx="720" cy="405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343600" y="2926800"/>
                <a:ext cx="1857600" cy="15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09480" y="2926800"/>
                <a:ext cx="1805040" cy="157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356560" y="2981880"/>
                <a:ext cx="1857600" cy="15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2343600" y="3218040"/>
                <a:ext cx="1857600" cy="99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892880" y="2599560"/>
                <a:ext cx="2707200" cy="22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45080" y="2599560"/>
                <a:ext cx="2707200" cy="22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1865880" y="2643120"/>
                <a:ext cx="2786400" cy="223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1905840" y="3050280"/>
                <a:ext cx="2653920" cy="14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1414800" y="2643480"/>
                <a:ext cx="3714480" cy="223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415160" y="2261880"/>
                <a:ext cx="3635280" cy="292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54760" y="2261880"/>
                <a:ext cx="3635280" cy="292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4372920" y="2981880"/>
                <a:ext cx="717120" cy="15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137760" y="3778920"/>
              <a:ext cx="5624640" cy="1644120"/>
              <a:chOff x="3137760" y="3778920"/>
              <a:chExt cx="5624640" cy="1644120"/>
            </a:xfrm>
          </p:grpSpPr>
          <p:sp>
            <p:nvSpPr>
              <p:cNvPr id="267" name=""/>
              <p:cNvSpPr/>
              <p:nvPr/>
            </p:nvSpPr>
            <p:spPr>
              <a:xfrm>
                <a:off x="5128920" y="4522320"/>
                <a:ext cx="363348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Teste de Validação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28920" y="3778920"/>
                <a:ext cx="319536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Teste de Unidade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37760" y="3778920"/>
                <a:ext cx="6948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U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3807720" y="3935160"/>
                <a:ext cx="1181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28920" y="4150800"/>
                <a:ext cx="36115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Teste de Integração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37760" y="4121640"/>
                <a:ext cx="694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807720" y="4306320"/>
                <a:ext cx="1181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37760" y="4550400"/>
                <a:ext cx="694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3807720" y="4692960"/>
                <a:ext cx="1181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128920" y="4879440"/>
                <a:ext cx="31953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Teste de Sistema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37760" y="4907880"/>
                <a:ext cx="6948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S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3807720" y="5050080"/>
                <a:ext cx="1181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1059120" y="825480"/>
            <a:ext cx="198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squem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49480" y="5638680"/>
            <a:ext cx="49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5: Fases da atividade de test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Indíce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Técnicas de teste de softw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Fases da atividade de test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Tipos de ferramenta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Ferramentas de automatizaçã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Depuraçã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unidade</a:t>
            </a: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bjetiv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Confirmar que o módulo foi codificado corretamente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em faz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Geralmente o programador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que é testado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: As funções são postas à prova (caixa preta). A codificação pode ser verificada. Os extremos e limites são explorad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ando termina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quando o programador se sente à vontade, e não consegue detectar mais nenhum err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cursos extra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não são empregad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gistro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Raramente feitos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unidad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00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0" t="0" r="41699" b="44534"/>
          <a:stretch/>
        </p:blipFill>
        <p:spPr>
          <a:xfrm>
            <a:off x="914400" y="2133720"/>
            <a:ext cx="7315200" cy="3795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059120" y="825480"/>
            <a:ext cx="198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squem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58672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6: Casos de teste do teste de unidad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bjetiv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Construir a estrutura de programa a partir de módulos testados ao nível de unidad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em faz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Geralmente o programador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que é testado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: A integração entre os módul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ando termina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Quando o programador verifica que a interligação entre os módulos se encontra bem definid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cursos extra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não são empregad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gistro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Raramente feit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integração (tipos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Não-Incremental (Big-Bang): As unidades são combinadas e o programa completo é testado como um to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Incremental: Combina o módulo seguinte a ser testado com o conjunto de módulos já testados, existem dois tip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Integração Top-dow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Integração Bottom-up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Módulos são integrados de cima para baixo, partindo-se do módulo principal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Pode ser realizada, de duas maneiras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por profundidade (depth firs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por largura (breadth firs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9536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5600" y="838080"/>
            <a:ext cx="4415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Integração Top-down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rcRect l="0" t="0" r="39879" b="63445"/>
          <a:stretch/>
        </p:blipFill>
        <p:spPr>
          <a:xfrm>
            <a:off x="838080" y="4114800"/>
            <a:ext cx="7010640" cy="24591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994280" y="5943600"/>
            <a:ext cx="40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7: Integração top-dow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Início da construção e dos testes com módulos atômicos (localizados no nível mais baixo da estrutura do sistem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Quando os módulos de níveis superiores vão ser testados, os módulos subordinados já estão prontos e portanto, não se torna necessária a criação de stub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9320" y="838080"/>
            <a:ext cx="4565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Integração Bottom-up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40480" y="1828800"/>
            <a:ext cx="8878320" cy="4419360"/>
            <a:chOff x="240480" y="1828800"/>
            <a:chExt cx="8878320" cy="4419360"/>
          </a:xfrm>
        </p:grpSpPr>
        <p:sp>
          <p:nvSpPr>
            <p:cNvPr id="302" name=""/>
            <p:cNvSpPr/>
            <p:nvPr/>
          </p:nvSpPr>
          <p:spPr>
            <a:xfrm>
              <a:off x="2393280" y="5377320"/>
              <a:ext cx="0" cy="5349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50400" y="4641120"/>
              <a:ext cx="57816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428560" y="4641120"/>
              <a:ext cx="65412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50400" y="3769920"/>
              <a:ext cx="652320" cy="60264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02720" y="3769920"/>
              <a:ext cx="507960" cy="60264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34240" y="4641120"/>
              <a:ext cx="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221800" y="4641120"/>
              <a:ext cx="50940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31560" y="4641120"/>
              <a:ext cx="50616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60720" y="4641120"/>
              <a:ext cx="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78360" y="3769920"/>
              <a:ext cx="0" cy="53496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68360" y="3837600"/>
              <a:ext cx="726120" cy="46728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098960" y="3837600"/>
              <a:ext cx="797040" cy="53532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83920" y="2632320"/>
              <a:ext cx="65088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M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7440" y="4305240"/>
              <a:ext cx="6523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68560" y="5041440"/>
              <a:ext cx="65088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68560" y="5779080"/>
              <a:ext cx="650880" cy="40176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080" y="4305240"/>
              <a:ext cx="6523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8080" y="5041440"/>
              <a:ext cx="6523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03960" y="4305240"/>
              <a:ext cx="6523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33080" y="5041440"/>
              <a:ext cx="6505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76280" y="5041440"/>
              <a:ext cx="64944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15120" y="4305240"/>
              <a:ext cx="65268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15120" y="5041440"/>
              <a:ext cx="65268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9480" y="3435840"/>
              <a:ext cx="65412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05120" y="3435840"/>
              <a:ext cx="65412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15120" y="3435840"/>
              <a:ext cx="65268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72480" y="2632320"/>
              <a:ext cx="65376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M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0960" y="4305240"/>
              <a:ext cx="65088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8920" y="1828800"/>
              <a:ext cx="65232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264c"/>
                  </a:solidFill>
                  <a:latin typeface="Tahoma"/>
                </a:rPr>
                <a:t>M</a:t>
              </a:r>
              <a:r>
                <a:rPr b="1" lang="pt-BR" sz="1800" spc="-1" strike="noStrike" baseline="-25000">
                  <a:solidFill>
                    <a:srgbClr val="00264c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25" idx="0"/>
              <a:endCxn id="328" idx="2"/>
            </p:cNvCxnSpPr>
            <p:nvPr/>
          </p:nvCxnSpPr>
          <p:spPr>
            <a:xfrm flipH="1" flipV="1" rot="5400000">
              <a:off x="2882520" y="2617920"/>
              <a:ext cx="402480" cy="1233360"/>
            </a:xfrm>
            <a:prstGeom prst="curvedConnector5">
              <a:avLst>
                <a:gd name="adj1" fmla="val 49955"/>
                <a:gd name="adj2" fmla="val 49985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0"/>
              <a:endCxn id="328" idx="2"/>
            </p:cNvCxnSpPr>
            <p:nvPr/>
          </p:nvCxnSpPr>
          <p:spPr>
            <a:xfrm flipV="1" rot="16200000">
              <a:off x="4115160" y="2617560"/>
              <a:ext cx="402480" cy="1233720"/>
            </a:xfrm>
            <a:prstGeom prst="curvedConnector5">
              <a:avLst>
                <a:gd name="adj1" fmla="val 49955"/>
                <a:gd name="adj2" fmla="val 50000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33" name=""/>
            <p:cNvCxnSpPr>
              <a:stCxn id="327" idx="0"/>
              <a:endCxn id="314" idx="2"/>
            </p:cNvCxnSpPr>
            <p:nvPr/>
          </p:nvCxnSpPr>
          <p:spPr>
            <a:xfrm flipV="1" rot="16200000">
              <a:off x="6724800" y="2618280"/>
              <a:ext cx="402480" cy="1231920"/>
            </a:xfrm>
            <a:prstGeom prst="curvedConnector5">
              <a:avLst>
                <a:gd name="adj1" fmla="val 49955"/>
                <a:gd name="adj2" fmla="val 49985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8" idx="0"/>
              <a:endCxn id="330" idx="2"/>
            </p:cNvCxnSpPr>
            <p:nvPr/>
          </p:nvCxnSpPr>
          <p:spPr>
            <a:xfrm flipH="1" flipV="1" rot="5400000">
              <a:off x="4151160" y="1778040"/>
              <a:ext cx="402480" cy="1305720"/>
            </a:xfrm>
            <a:prstGeom prst="curvedConnector5">
              <a:avLst>
                <a:gd name="adj1" fmla="val 49955"/>
                <a:gd name="adj2" fmla="val 50000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14" idx="0"/>
              <a:endCxn id="330" idx="2"/>
            </p:cNvCxnSpPr>
            <p:nvPr/>
          </p:nvCxnSpPr>
          <p:spPr>
            <a:xfrm flipV="1" rot="16200000">
              <a:off x="5456520" y="1778040"/>
              <a:ext cx="402480" cy="1305720"/>
            </a:xfrm>
            <a:prstGeom prst="curvedConnector5">
              <a:avLst>
                <a:gd name="adj1" fmla="val 49955"/>
                <a:gd name="adj2" fmla="val 50000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380960" y="4239360"/>
              <a:ext cx="144360" cy="20088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2200 h 2008800"/>
                <a:gd name="textAreaBottom" fmla="*/ 195660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06680" y="4239360"/>
              <a:ext cx="144000" cy="127260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33120 h 1272600"/>
                <a:gd name="textAreaBottom" fmla="*/ 1239480 h 127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0480" y="5050800"/>
              <a:ext cx="107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64c"/>
                  </a:solidFill>
                  <a:latin typeface="Tahoma"/>
                </a:rPr>
                <a:t>Cluster 1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66240" y="5897880"/>
              <a:ext cx="107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64c"/>
                  </a:solidFill>
                  <a:latin typeface="Tahoma"/>
                </a:rPr>
                <a:t>Cluster 2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480" y="4726440"/>
              <a:ext cx="107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64c"/>
                  </a:solidFill>
                  <a:latin typeface="Tahoma"/>
                </a:rPr>
                <a:t>Cluster 3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5020200" y="4072680"/>
              <a:ext cx="367920" cy="3111480"/>
            </a:xfrm>
            <a:custGeom>
              <a:avLst/>
              <a:gdLst>
                <a:gd name="textAreaLeft" fmla="*/ 235080 w 367920"/>
                <a:gd name="textAreaRight" fmla="*/ 368280 w 367920"/>
                <a:gd name="textAreaTop" fmla="*/ 52560 h 3111480"/>
                <a:gd name="textAreaBottom" fmla="*/ 3058920 h 31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85"/>
                    <a:pt x="10800" y="1170"/>
                  </a:cubicBezTo>
                  <a:lnTo>
                    <a:pt x="10800" y="9244"/>
                  </a:lnTo>
                  <a:cubicBezTo>
                    <a:pt x="10800" y="9829"/>
                    <a:pt x="5400" y="10414"/>
                    <a:pt x="0" y="10414"/>
                  </a:cubicBezTo>
                  <a:cubicBezTo>
                    <a:pt x="5400" y="10414"/>
                    <a:pt x="10800" y="10999"/>
                    <a:pt x="10800" y="11584"/>
                  </a:cubicBezTo>
                  <a:lnTo>
                    <a:pt x="10800" y="20430"/>
                  </a:lnTo>
                  <a:cubicBezTo>
                    <a:pt x="10800" y="2101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77120" y="838080"/>
            <a:ext cx="673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Integração Bottom-up (esquema)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9120" y="6248520"/>
            <a:ext cx="41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8: Integração Bottom-up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Integração Top-down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</a:rPr>
              <a:t>Vantagem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Testar logo no início as funções principais do softwar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</a:rPr>
              <a:t>Desvantagem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os stubs e a dificuldade de teste quando eles são usad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Integração Bottom-up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</a:rPr>
              <a:t>Vantagem: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Não se precisa de stub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</a:rPr>
              <a:t>Desvantagem: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O módulo principal não existe até que todos os módulos estiverem testad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5600" y="838080"/>
            <a:ext cx="544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Vantagens e desvantagen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valid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bjetiv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Avaliar a possibilidade de uso do sistem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em faz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Cliente ou usuário fina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que é testad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Funções principais, documentação e procediment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ando termina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quando o usuário se sente a vontade, ou quando o teste proposto dá bom resultad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cursos extra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Comparadore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gistro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sparsos; alguns altamente formalizados.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valid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visão de Configuração: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 G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arantir que todos os elementos da configuração de software tenham sido adequadamente desenvolvidos, estão catalogados e têm os detalhes necessários para apoiar a fase de manutenção do ciclo de vida do softwar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644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0" t="0" r="13086" b="58421"/>
          <a:stretch/>
        </p:blipFill>
        <p:spPr>
          <a:xfrm>
            <a:off x="380880" y="3962520"/>
            <a:ext cx="8467920" cy="25146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143000" y="762120"/>
            <a:ext cx="236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squem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9360" y="3733920"/>
            <a:ext cx="296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9: Revisão da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Produção do softwa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761760"/>
            <a:ext cx="77724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ahoma"/>
              </a:rPr>
              <a:t>D</a:t>
            </a: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efinições de test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O teste consiste em executar o programa com a intenção de encontrar erros (bugs)”. Myers, 1979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“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é qualquer atividade que vise avaliar uma característica ou recurso de um programa ou sistema”. Hetzel, 1983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valid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Pode ser de dois tip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ahoma"/>
              </a:rPr>
              <a:t>Alfa: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É feito por um cliente nas instalações do desenvolvedor.  O software é usado num ambiente controlado com o desenvolvedor "olhando sobre os ombros“ do usuário e registrando erros e problemas de uso.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ahoma"/>
              </a:rPr>
              <a:t>Beta: 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É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realizado nas instalações do cliente pelo usuário final do software. O desenvolvedor não está presente, e o cliente registra os problemas que são encontrados e relata-os ao desenvolvedor posteriorment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43000" y="762120"/>
            <a:ext cx="1523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ipo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bjetiv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Testar o sistema como um todo, após serem agrupados seus módul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em faz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Líder do projeto ou grupo de teste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que é testad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Necessidades técnicas e funcionais do sistema. Interfaces do sistem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ando termina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quando a maioria das necessidades é atendida, permanecendo poucos erros importante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cursos extra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Biblioteca de casos de testes. Geradores, comparadores e simuladores de teste em mass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gistro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Os erros descobertos costumam ser registrados.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Envolve uma série de diferentes testes, cujo propósito primordial é pôr completamente à prova o sistema baseado em computador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Se divide em quatro testes: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Recuperação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Segurança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Estresse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Desempenh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838080"/>
            <a:ext cx="1523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ipo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É um teste de sistema que força o software a falhar de diversas maneiras e verifica se a recuperação é adequadamente executad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08080" y="838080"/>
            <a:ext cx="444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333333"/>
                </a:solidFill>
                <a:latin typeface="Tahoma"/>
              </a:rPr>
              <a:t>Teste de Recuperaçã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nta verificar se todos os mecanismos de proteção embutidos num sistema o protegerão, de fato, de acessos indevidos.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A estratégia de teste deve ser feita por programadores que não desenvolveram o softwar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Os testadores devem tentar penetrar no sistema de várias formas: obtenção ilegal de senhas, desarme do sistema e outr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01240" y="838080"/>
            <a:ext cx="4002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este de Seguranç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Confronta os programas com situações anormais de freqüência, volume ou recursos em quantidad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Pode ser utilizada uma lista com situações padrão de provocação de “estresse do sistema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8760" y="838080"/>
            <a:ext cx="347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este de Estresse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Testa o tempo de resposta do sistema e é aplicado geralmente para sistemas de tempo real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Preocupa-se com o rendimento, tempo de resposta e capacidade – especialmente a capacidade do banco de dad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19600" y="838080"/>
            <a:ext cx="446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este de Desempenh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regress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64c"/>
                </a:solidFill>
                <a:latin typeface="Tahoma"/>
              </a:rPr>
              <a:t>Definição: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 São aqueles executados para verificar se um bug anteriormente detectado foi realmente consertado e não gerou novos bug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A cada novo módulo adicionado como parte do teste de integração o software muda e talvez seja preciso eliminar os efeitos colaterai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Novos caminhos de fluxo de dad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Novas E/S podem ocorrer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ipos de Ferrament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Estáticas: Não executam o program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Vantagens: cobertura completa (teoricamente), verificam portabilidade, estilo e são independentes da qualidade dos casos de test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Desvantagens: Precisam  acessar o código fonte e a detecção de problemas dinâmicos (uso de memória, por exemplo) é limitad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ipos de Ferrament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Dinâmicas: Monitoram a execução do program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Vantagens: Detectam problemas de execução, podem monitorar valores de variáveis e o acesso ao código fonte não é necessári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Desvantagens: Cobertura depende dos casos de testes, falhas detectadas podem ser difíceis de ser relacionadas a falhas reais, necessidade de instrumentaçã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O teste consiste em</a:t>
            </a:r>
            <a:r>
              <a:rPr b="0" lang="en-US" sz="4000" spc="-1" strike="noStrike">
                <a:solidFill>
                  <a:srgbClr val="333333"/>
                </a:solidFill>
                <a:latin typeface="Tahoma"/>
                <a:ea typeface="Times New Roman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  <a:ea typeface="Times New Roman"/>
              </a:rPr>
              <a:t>Selecionar o que deve ser medido (atributo ou característica);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  <a:ea typeface="Times New Roman"/>
              </a:rPr>
              <a:t>Criar entradas controladas ou casos que ponham à prova ou revelem algo sobre o atributo ou característica que será medida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  <a:ea typeface="Times New Roman"/>
              </a:rPr>
              <a:t>Simular ou executar as situações de teste e analisar os resultados, comparando-os a um padrão ou comportamento esperado.</a:t>
            </a: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  <a:ea typeface="Arial"/>
              </a:rPr>
              <a:t>Ferramentas de Automatiz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Uma ferramenta de teste reduz a intervenção humana nos resultados obtidos, aumentando a qualidade e a produtividade da atividade de teste. Influencia diretamente a confiabilidade do software testad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Ela deveria 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1. Produzir casos de teste que mostrassem o comportamento errado do programa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2. Listar o erros revelados e a sua localização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Exemplos Acadêmicos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1. PROTESTE (UFRGS) para programas em Pascal/Análise de Fluxo de Dado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2. Mothra (UNICAMP) para programas em Fortran/Análise de Mutant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3. Proteum (Program Testing Using Mutants) (UNICAMP) para programas em C /Análise de Mutantes</a:t>
            </a:r>
            <a:r>
              <a:rPr b="0" lang="pt-BR" sz="1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Teste de d</a:t>
            </a: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efe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ito e</a:t>
            </a: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 depuração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 são processos distintos</a:t>
            </a: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Depuração 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preocupa-se em localizar e reparar estes erros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Depuração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 envolve a formulação de hipóteses sobre o comportamento de um programa e então testar estas hipóteses p/ descobrir o erro do sistema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Tahoma"/>
              </a:rPr>
              <a:t>Test</a:t>
            </a: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e</a:t>
            </a:r>
            <a:r>
              <a:rPr b="0" lang="en-GB" sz="40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e</a:t>
            </a:r>
            <a:r>
              <a:rPr b="0" lang="en-GB" sz="4000" spc="-1" strike="noStrike">
                <a:solidFill>
                  <a:srgbClr val="333333"/>
                </a:solidFill>
                <a:latin typeface="Tahoma"/>
              </a:rPr>
              <a:t> depu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Conseqüência não previsível do teste. Depois de revelada a presença do defeito, ele deve ser encontrado e corrigid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Depuração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45800" y="838080"/>
            <a:ext cx="2032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333333"/>
                </a:solidFill>
                <a:latin typeface="Tahoma"/>
              </a:rPr>
              <a:t>Definiçã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Depuração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Pode ser de três tipos: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Força brut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Depuração por induçã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Depuração por deduçã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838080"/>
            <a:ext cx="1295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333333"/>
                </a:solidFill>
                <a:latin typeface="Tahoma"/>
              </a:rPr>
              <a:t>Tipo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O processo de</a:t>
            </a:r>
            <a:r>
              <a:rPr b="0" lang="en-GB" sz="4000" spc="-1" strike="noStrike">
                <a:solidFill>
                  <a:srgbClr val="333333"/>
                </a:solidFill>
                <a:latin typeface="Tahoma"/>
              </a:rPr>
              <a:t> depuração</a:t>
            </a: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69800" y="2133720"/>
            <a:ext cx="8258400" cy="2912040"/>
            <a:chOff x="469800" y="2133720"/>
            <a:chExt cx="8258400" cy="2912040"/>
          </a:xfrm>
        </p:grpSpPr>
        <p:sp>
          <p:nvSpPr>
            <p:cNvPr id="394" name=""/>
            <p:cNvSpPr/>
            <p:nvPr/>
          </p:nvSpPr>
          <p:spPr>
            <a:xfrm>
              <a:off x="473400" y="2865600"/>
              <a:ext cx="1500480" cy="6426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Resultados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os teste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34480" y="2865600"/>
              <a:ext cx="1703160" cy="36828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Especificaçã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9800" y="4403160"/>
              <a:ext cx="155520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Localização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do err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17560" y="4403160"/>
              <a:ext cx="183888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Planejar o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reparo do err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36320" y="4403160"/>
              <a:ext cx="164088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Reparar err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99560" y="4403160"/>
              <a:ext cx="152172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Re-testar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o programa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19000" y="2865600"/>
              <a:ext cx="1104120" cy="6426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aso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e test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86200" y="4550040"/>
              <a:ext cx="505080" cy="292320"/>
            </a:xfrm>
            <a:prstGeom prst="rightArrow">
              <a:avLst>
                <a:gd name="adj1" fmla="val 50000"/>
                <a:gd name="adj2" fmla="val 43196"/>
              </a:avLst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68680" y="4476600"/>
              <a:ext cx="433080" cy="292680"/>
            </a:xfrm>
            <a:prstGeom prst="rightArrow">
              <a:avLst>
                <a:gd name="adj1" fmla="val 50000"/>
                <a:gd name="adj2" fmla="val 36993"/>
              </a:avLst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34440" y="4476600"/>
              <a:ext cx="433080" cy="292680"/>
            </a:xfrm>
            <a:prstGeom prst="rightArrow">
              <a:avLst>
                <a:gd name="adj1" fmla="val 50000"/>
                <a:gd name="adj2" fmla="val 36993"/>
              </a:avLst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0960" y="3744360"/>
              <a:ext cx="426960" cy="483480"/>
            </a:xfrm>
            <a:prstGeom prst="downArrow">
              <a:avLst>
                <a:gd name="adj1" fmla="val 58046"/>
                <a:gd name="adj2" fmla="val 54023"/>
              </a:avLst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41080" y="3744360"/>
              <a:ext cx="427320" cy="483480"/>
            </a:xfrm>
            <a:prstGeom prst="downArrow">
              <a:avLst>
                <a:gd name="adj1" fmla="val 58046"/>
                <a:gd name="adj2" fmla="val 53978"/>
              </a:avLst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30040" y="3744360"/>
              <a:ext cx="424080" cy="483480"/>
            </a:xfrm>
            <a:prstGeom prst="downArrow">
              <a:avLst>
                <a:gd name="adj1" fmla="val 58046"/>
                <a:gd name="adj2" fmla="val 54390"/>
              </a:avLst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endCxn id="394" idx="0"/>
            </p:cNvCxnSpPr>
            <p:nvPr/>
          </p:nvCxnSpPr>
          <p:spPr>
            <a:xfrm flipV="1" rot="10800000">
              <a:off x="1221840" y="2206080"/>
              <a:ext cx="7427880" cy="659520"/>
            </a:xfrm>
            <a:prstGeom prst="bentConnector2">
              <a:avLst/>
            </a:prstGeom>
            <a:ln w="15228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408" name=""/>
            <p:cNvSpPr/>
            <p:nvPr/>
          </p:nvSpPr>
          <p:spPr>
            <a:xfrm flipV="1">
              <a:off x="8728200" y="2133720"/>
              <a:ext cx="0" cy="2708640"/>
            </a:xfrm>
            <a:prstGeom prst="line">
              <a:avLst/>
            </a:prstGeom>
            <a:ln w="1522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83840" y="4696200"/>
              <a:ext cx="144000" cy="1461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932920" y="5257800"/>
            <a:ext cx="44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10: Processo de depuraçã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Frases encontradas no decorrer da pesquisa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A pressão leva o desenvolvedor de software a consertar um erro e, ao mesmo tempo, introduzir mais dois” –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Pressm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Uma imagem vale mais do que mil palavras e um exemplo vale mais do que mil imagens” –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Hetz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A atividade de teste nunca termina; ela apenas é transferida do projetista (você) para o seu cliente. Toda vez que o seu cliente usa o programa, um teste é realizado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A depuração é uma das partes mais frustrantes da programação...”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- Pressm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Bibliografia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HETZEL, William. Teste de software – Ed. Traduzida. Rio de Janeiro-RJ: Editora Campus, 1987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INTHURN, Cândida. Qualidade &amp; teste de software – Florianópolis-SC: Visual Books, 2001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PRESSMAN, R.S., Engenharia de Software - São Paulo – SP: MacGraw-Hill Ltda, 1995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ceito de Test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A atividade de teste se encontra acoplada em todas as fases do ciclo de desenvolvimento de software, diferentemente do que é visto na figura abaixo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90720" y="3657600"/>
            <a:ext cx="7619400" cy="2362320"/>
            <a:chOff x="990720" y="3657600"/>
            <a:chExt cx="7619400" cy="2362320"/>
          </a:xfrm>
        </p:grpSpPr>
        <p:sp>
          <p:nvSpPr>
            <p:cNvPr id="110" name=""/>
            <p:cNvSpPr/>
            <p:nvPr/>
          </p:nvSpPr>
          <p:spPr>
            <a:xfrm>
              <a:off x="990720" y="3657600"/>
              <a:ext cx="1977120" cy="59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Engenharia de Sistemas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74920" y="3985920"/>
              <a:ext cx="2154240" cy="59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Análise  de Requisitos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35360" y="4313160"/>
              <a:ext cx="2154240" cy="590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Projeto 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9160" y="4641840"/>
              <a:ext cx="2154240" cy="59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Codificação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34920" y="4970520"/>
              <a:ext cx="2154240" cy="5900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Teste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55880" y="5232600"/>
              <a:ext cx="2154240" cy="59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Manutenção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5320" y="3854520"/>
              <a:ext cx="56772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9160" y="4116600"/>
              <a:ext cx="33876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9600" y="4444560"/>
              <a:ext cx="33912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83400" y="4773240"/>
              <a:ext cx="33876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9160" y="5101200"/>
              <a:ext cx="45432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3400" y="3854520"/>
              <a:ext cx="0" cy="13140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8280" y="4116600"/>
              <a:ext cx="0" cy="19620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9080" y="4444560"/>
              <a:ext cx="0" cy="19728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22520" y="4773240"/>
              <a:ext cx="0" cy="19692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43840" y="5101200"/>
              <a:ext cx="0" cy="13104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477200" y="5822280"/>
              <a:ext cx="0" cy="19692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94880" y="6019920"/>
              <a:ext cx="578232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4880" y="4248000"/>
              <a:ext cx="0" cy="177156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68720" y="4575960"/>
              <a:ext cx="0" cy="144360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01640" y="4903920"/>
              <a:ext cx="0" cy="111564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95800" y="5232600"/>
              <a:ext cx="0" cy="78732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03360" y="5560560"/>
              <a:ext cx="0" cy="45936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70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86760" y="609588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1: Ciclo de vida clássic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Princípios da atividade de test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ar tudo é impossível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A execução dos testes é criativa e difícil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Prevenir erros é um dos motivos dos teste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Os testes tem que ser planejado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ar exige independênci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Falsas verdades sobre test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ar é fácil;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Qualquer um pode fazer os teste;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Não é necessário nenhum treinamento ou experiência.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7120" y="4724280"/>
          <a:ext cx="229392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724280"/>
                    <a:ext cx="229392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Problemas com os test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A atividade de teste não pode mostrar a ausência de </a:t>
            </a:r>
            <a:r>
              <a:rPr b="0" i="1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bugs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; ela só pode mostrar se defeitos de software estão presente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Critério de parada é uma decisão difícil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softwar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7160" y="2133720"/>
            <a:ext cx="8917560" cy="4267080"/>
            <a:chOff x="227160" y="2133720"/>
            <a:chExt cx="8917560" cy="4267080"/>
          </a:xfrm>
        </p:grpSpPr>
        <p:sp>
          <p:nvSpPr>
            <p:cNvPr id="145" name=""/>
            <p:cNvSpPr/>
            <p:nvPr/>
          </p:nvSpPr>
          <p:spPr>
            <a:xfrm>
              <a:off x="762120" y="3186000"/>
              <a:ext cx="1904760" cy="908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Atividades de Test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03480" y="3689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38480" y="3677400"/>
              <a:ext cx="1752840" cy="908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Avaliaçã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2763000"/>
              <a:ext cx="1979640" cy="908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epuraçã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800" y="5105160"/>
              <a:ext cx="2587680" cy="1295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Modelo de Confiabilidad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3480" y="2133720"/>
              <a:ext cx="177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onfiguração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e Softwar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7160" y="4876920"/>
              <a:ext cx="177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onfiguração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e Test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9600" y="3200400"/>
              <a:ext cx="15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Resultados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os Teste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96080" y="4876920"/>
              <a:ext cx="15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Resultados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Esperado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3120" y="4648320"/>
              <a:ext cx="129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ados da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Taxa d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Erro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43000" y="327672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Erro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49320" y="4724280"/>
              <a:ext cx="18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onfiabilidade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Prevista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9920" y="38098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orreçõe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5" idx="6"/>
              <a:endCxn id="147" idx="2"/>
            </p:cNvCxnSpPr>
            <p:nvPr/>
          </p:nvCxnSpPr>
          <p:spPr>
            <a:xfrm>
              <a:off x="2666880" y="3639960"/>
              <a:ext cx="1372320" cy="49320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47" idx="4"/>
              <a:endCxn id="149" idx="0"/>
            </p:cNvCxnSpPr>
            <p:nvPr/>
          </p:nvCxnSpPr>
          <p:spPr>
            <a:xfrm>
              <a:off x="4915080" y="4376520"/>
              <a:ext cx="1637280" cy="93708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47" idx="7"/>
              <a:endCxn id="148" idx="3"/>
            </p:cNvCxnSpPr>
            <p:nvPr/>
          </p:nvCxnSpPr>
          <p:spPr>
            <a:xfrm flipV="1">
              <a:off x="5533920" y="3390480"/>
              <a:ext cx="1386720" cy="56736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2"/>
              <a:endCxn id="145" idx="0"/>
            </p:cNvCxnSpPr>
            <p:nvPr/>
          </p:nvCxnSpPr>
          <p:spPr>
            <a:xfrm>
              <a:off x="1190520" y="2774880"/>
              <a:ext cx="524880" cy="42624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1" idx="0"/>
              <a:endCxn id="145" idx="4"/>
            </p:cNvCxnSpPr>
            <p:nvPr/>
          </p:nvCxnSpPr>
          <p:spPr>
            <a:xfrm flipV="1">
              <a:off x="1114200" y="4079520"/>
              <a:ext cx="600840" cy="79776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3" idx="0"/>
              <a:endCxn id="147" idx="3"/>
            </p:cNvCxnSpPr>
            <p:nvPr/>
          </p:nvCxnSpPr>
          <p:spPr>
            <a:xfrm flipV="1">
              <a:off x="3045960" y="4304880"/>
              <a:ext cx="1250280" cy="57240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48" idx="5"/>
            </p:cNvCxnSpPr>
            <p:nvPr/>
          </p:nvCxnSpPr>
          <p:spPr>
            <a:xfrm>
              <a:off x="8318520" y="3390480"/>
              <a:ext cx="559080" cy="34380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49" idx="6"/>
            </p:cNvCxnSpPr>
            <p:nvPr/>
          </p:nvCxnSpPr>
          <p:spPr>
            <a:xfrm flipV="1">
              <a:off x="7845120" y="5409360"/>
              <a:ext cx="918360" cy="34380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</p:grpSp>
      <p:sp>
        <p:nvSpPr>
          <p:cNvPr id="166" name=""/>
          <p:cNvSpPr/>
          <p:nvPr/>
        </p:nvSpPr>
        <p:spPr>
          <a:xfrm>
            <a:off x="1211760" y="838080"/>
            <a:ext cx="198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squem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6:26:18Z</dcterms:created>
  <dc:creator>Anderson Viçoso de Araújo</dc:creator>
  <dc:description/>
  <dc:language>en-US</dc:language>
  <cp:lastModifiedBy>Guardian</cp:lastModifiedBy>
  <dcterms:modified xsi:type="dcterms:W3CDTF">2002-06-07T05:15:43Z</dcterms:modified>
  <cp:revision>34</cp:revision>
  <dc:subject/>
  <dc:title>Teste de Software</dc:title>
</cp:coreProperties>
</file>